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26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dt" idx="3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ftr" idx="3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 type="sldNum" idx="3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1996-74D2-4A56-8998-42F04BFD0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eneti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pulation 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ccur in gene pools due to mutation, natural selection, genetic drift, et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pool changes cause more VARIATION in individuals in the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cess is called MICRO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Bacteria becoming unaffected by antibiotics (resistan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ccur in gene pools due to mutation, natural selection, genetic drift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pool changes cause more VARIATION in individuals in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cess is called MI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Bacteria becoming unaffected by antibiotics (resist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describe a non-evolving popul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uffling of alleles by meiosis and random fertilization have no effect on the overall gene pool. 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populations are NOT expected to actually be in Hardy-Weinberg equilibriu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describe a non-evolving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uffling of alleles by meiosis and random fertilization have no effect on the overall gene pool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populations are NOT expected to actually be in Hardy-Weinberg equilib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tion from Hardy-Weinberg equilibrium usually results in 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a non-evolving population, helps us to understand how evolution occu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tion from Hardy-Weinberg equilibrium usually results in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a non-evolving population, helps us to understand how evolution occ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Assumptions of the H-W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population siz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small populations have fluctuations in allele frequencies (e.g., fire, storm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ig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mmigrants can change the frequency of an allele by bringing in new alleles to a popul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et muta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alleles change from one to another, this will change the frequency of those alle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Assumptions of the H-W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population siz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small populations have fluctuations in allele frequencies (e.g., fire, stor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ig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mmigrants can change the frequency of an allele by bringing in new alleles to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et muta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alleles change from one to another, this will change the frequency of thos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Assumptions of the H-W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om mat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certain traits are more desirable, then individuals with those traits will be selected and this will not allow for random mixing of alle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atural sele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some individuals survive and reproduce at a higher rate than others, then their offspring will carry those genes and the frequency will change for the next gener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Assumptions of the H-W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om mat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certain traits are more desirable, then individuals with those traits will be selected and this will not allow for random mixing of alle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atural sele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some individuals survive and reproduce at a higher rate than others, then their offspring will carry those genes and the frequency will change for the next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its Selected for Random Mat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its Selected for 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pool of a NON-EVOLVING population remains CONSTANT over multiple generations (allele frequency doesn’t chang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Equation: 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 = p2 + 2pq + q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2 = frequency of AA genoty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q = frequency of A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 = frequency of aa genoty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gene pool of a NON-EVOLVING population remains CONSTANT over multiple generations (allele frequency doesn’t chan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Hardy-Weinberg Equation: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              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0 = p2 + 2pq + q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2 = frequency of AA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pq = frequency of A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2 = frequency of aa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ing the Allele Frequency using Hardy-Weinberg: 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        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 = p + q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frequency of A alle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frequency of a alle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ing the Allele Frequency using Hardy-Weinberg: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       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 = p + 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frequency of A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frequency of a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ies Define Gene Poo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re are 1000 copies of the genes for color,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ele frequencies are (in both males and females)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0 x 2 (RR) + 160 x 1 (Rr) = 800 R;  800/1000 = 0.8 (80%) 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 x 1 (Rr) + 20 x 2 (rr) = 200 r; 200/1000 = 0.2 (20%) 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 flowering pla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0 red flow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white flow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0 R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 R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r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ies Define Gene P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re are 1000 copies of the genes for colo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ele frequencies are (in both males and females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0 x 2 (RR) + 160 x 1 (Rr) = 800 R;  800/1000 = 0.8 (80%)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 x 1 (Rr) + 20 x 2 (rr) = 200 r; 200/1000 = 0.2 (20%)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 flow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0 r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white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0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Poo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a species can interbreed &amp; produce fertile offspr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have a shared gene poo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pool – all of the alleles of all individuals in a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a species can interbreed &amp; produce fertile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have a shared gen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pool – all of the alleles of all individuals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 of Spec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croevolution of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Micro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he change in the gene pool of a small population due to chan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uccess in reproduction based on heritable traits results in selected alleles being passed to relatively more offspring (Darwinian inheritanc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ause ADAPTATION of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s genetic exchange due to the migration of fertile individuals or gametes between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Mi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he change in the gene pool of a small population due to ch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uccess in reproduction based on heritable traits results in selected alleles being passed to relatively more offspring (Darwinian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ause ADAPTATION of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s genetic exchange due to the migration of fertile individuals or gametes between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Micro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nge in an organism’s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can be transmitted in gametes to offspr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ates are chosen on the basis of the best tra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Mi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nge in an organism’s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can be transmitted in gametes to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ates are chosen on the basis of the best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enetic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that Cause Genetic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leneck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rastic reduction in population (volcanoes, earthquakes, landslides 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r population may not be able to adapt to new selection press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when a new colony is started by a few members of the original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ead to speci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that Cause Genetic Drif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leneck Effe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rastic reduction in population (volcanoes, earthquakes, landslides …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genetic vari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r population may not be able to adapt to new selection pressu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Effe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when a new colony is started by a few members of the original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genetic vari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ead to speci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s of Genetic Vari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etahs have little genetic variation in their gene poo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probably be attributed to a population bottleneck they experienced around 10,000 years ago, barely avoiding extinction at the end of the last ice 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s of 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etahs have little genetic variation in their gen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probably be attributed to a population bottleneck they experienced around 10,000 years ago, barely avoiding extinction at the end of the last ice 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Poo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pecies do NOT exchange genes by interbreed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pecies that interbreed often produce sterile or less viable offspring e.g. M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pecies do NOT exchange genes by interbree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pecies that interbreed often produce sterile or less viable offspring e.g. M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under’s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’s Effe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individuals at one end of the phenotypic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during times of environmental change or when moving to new habi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ruptive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extreme over intermediate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when environmental change favors an extreme 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individuals at one end of the phenotypic ran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during times of environmental change or when moving to new habita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ruptive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extreme over intermediate phenoty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when environmental change favors an extreme phenoty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rectional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ruptive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ruptive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intermediate over extreme phenoty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s variation and maintains the cureent aver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Human birth we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intermediate over extreme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s variation and maintains the cureent a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Human birth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s in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ariations in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 Vari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a species due to climate or another geographical con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live in different lo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Finches of Galapagos Islands &amp;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 Vari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a species due to climate or another geographical condi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live in different loc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Finches of Galapagos Islands &amp; South Americ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oup of the same species living in an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wo individuals are exactly alike (variation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it individuals survive &amp; pass on their tra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oup of the same species living in an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wo individuals are exactly alike (variat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it individuals survive &amp; pass on their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 Advant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heterozygotes (A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s both alleles (A,a) instead of removing less successful alleles from a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em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 Homozygotes exhibit severe anemia, have abnormal blood cell shape, and usually die before reproductive ag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 Heterozygotes are less susceptible to mala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eterozygote Adva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vors heterozygotes (A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intains both alleles (A,a) instead of removing less successful alleles from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ckle cell an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gt; Homozygotes exhibit severe anemia, have abnormal blood cell shape, and usually die before reproductive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gt; Heterozygotes are less susceptible to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d Mala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ckle Cell and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ources of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table environments, mutations often result in little or no benefit to an organism, or are often harm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are more beneficial (rare) in changing environments  (Example:  HIV resistance to antiviral drug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Recomb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 of most genetic differences between individuals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-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Often occurs between parasite &amp; host and flowers &amp; their pollin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ources of Vari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table environments, mutations often result in little or no benefit to an organism, or are often harmfu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are more beneficial (rare) in changing environments  (Example:  HIV resistance to antiviral drug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Recombin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 of most genetic differences between individuals in a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-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Often occurs between parasite &amp; host and flowers &amp; their pollinat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spec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pecies may split into 2 or more spec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es may evolve into a new spec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ires very long periods of ti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pecies may split into 2 or more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es may evolve into a new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ires very long periods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Evolutionary Thou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dern Evolutionary Thou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s Darwinian selection and Mendelian inheritan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enetics - study of genetic variation within a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s on quantitative characters (height, size …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s Darwinian selection and Mendelian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enetics - study of genetic variation with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s on quantitative characters (height, size 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0s – comprehensive theory of evolution (Modern Synthesis Theory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d by Fisher &amp; Wr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then, many did not accept that Darwin’s theory of natural selection could drive 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. Wr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Fish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0s – comprehensive theory of evolution (Modern Synthesis Theor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d by Fisher &amp; W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then, many did not accept that Darwin’s theory of natural selection could driv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. W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Fis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theory on 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GENES are responsible for the inheritance of characteristi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POPULATIONS, not individuals, evolve due to natural selection &amp; genetic drif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SPECIATION usually is due to the gradual accumulation of small genetic chang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theory on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GENES are responsible for the inheritance of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POPULATIONS, not individuals, evolve due to natural selection &amp; genetic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SPECIATION usually is due to the gradual accumulation of small genetic ch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6C03-DCDD-49F5-ACDE-F6457BD10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1AF8-0D5F-49E7-BED3-64653DDD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FDB8CA-9137-4DB6-996F-55103A4B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774D61-EDA8-4247-8875-842F5017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815619-72EB-4E60-B4A1-5B771378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6E455-45A3-4DC6-BCF8-49502AAB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C87DA-AC82-488E-BC88-E338207D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4E577E-5059-4FEC-90C8-ABDD8897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87952-CD75-4E9D-A83E-E516F80F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F9748C-AF6B-41DB-B7AA-E7435230F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A8CF5-650F-4039-A787-07438AE85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179829-4BED-4583-8080-12A4E5BFD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04F3-18DC-4C01-851F-9860971C6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C06C6-FE27-4AD6-8990-DC100F5B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58D1E7-C806-4680-87A5-21D1A24B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DF61A-AC05-4C66-9103-38E5E510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4B183-AC8F-4675-AD39-D5D0FD36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9EF622-72AF-42FB-9FD8-2868A7D5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E4600-9C1D-4B1F-A6AD-BBDEA70C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9B1F2-1930-4462-A806-A931F245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C38524-0A67-4603-B8D9-A328E3CA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9B663E-3727-4F9C-A3C7-D299B41F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B2A8E9-524D-4297-B3BB-4DB104E17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75D3-4B53-40F4-BD84-89382EB19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B1CB3-BF38-464C-BE6E-7EA3AB3DF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118A-F70E-4CFF-AB05-BD9C4F307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B97B-6460-47E2-8906-97ED8FA2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BA6B-85CA-4EB9-B80A-45CA5C1D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D305-9BD6-49CE-B376-498F09A3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5AD9-C60A-4796-9F64-9DDD43D9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E881-5754-4BC3-8A97-19F8DF19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5319-00EC-4A90-B4A0-AAC6FB80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13B4-1BAA-4AC9-9193-1E1C1E00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CB69-5FAD-4EC1-B57F-15674DA3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1ADC-94C1-4CE2-8229-89CDF344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4BE7-E20B-4B45-B3A8-FFB257AB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75E1-83C1-40A6-B2B2-22D26DE3C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2891-8CA0-4443-9F36-B46BD7E59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9E2DF-19AC-4EEF-A3C5-2F70439BE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AACF5-D273-4954-A6F2-69BB6541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31952-3591-4973-B4CB-E715AF10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2C6BA-7DD1-4A3B-95F3-A1182997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15C1F-6618-4B7A-83FC-80F6F153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8D2B-D788-4527-B54C-9DDD84FC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6D42E-4C5F-420B-B69D-0E9D1A25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D47C1-ED73-4785-BB32-2E06CEB5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08512-4E44-4436-8547-2C222FE2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B3BD7-1ECE-48B2-8FA4-A8A30987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1E1B2-0F6C-4EAE-9D27-94F03AAF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6FAD5-B73F-4AF8-802D-A6DEC6767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29436-FB8D-4A62-9BC7-EA1EB2252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4D299-729E-420F-949B-4C9254224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592C1-A8EA-48FF-810F-678ACDD9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6086D-FAD8-4393-9E4D-61329A6F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1F62-D1EC-4EC4-837A-7D15BDE9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D3A5D-7655-44EC-B2F1-B22D90A6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DEAB7-5DF8-4BBE-8F70-ADBD79FE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2AF1D-F8CA-4F1F-BEA2-7B80A51E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57F9A-2EF7-42AF-8948-88F15E08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BAC7F-4B90-4D13-926D-5429087E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11899-5F3D-4A5E-BD54-FA548B7D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65C19-563D-4A45-B6C2-4B849780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D3D10-C993-487E-AED2-C697353A4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D36D4-F8BB-440D-94E6-81AF17B5D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8C57F-3826-431B-A106-7B654F6A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7C11-3BDB-4C10-B601-ECC71A02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E53A5-2F20-4814-9677-00AB6562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C45C1-8244-456B-9A38-2F5A0F4E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73AAD-D045-4947-AF84-8BE4A919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29F8F-7E08-49AA-B025-C96F2C43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32A90-DF7E-4F0F-8581-F0C909C0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212A0-1B7E-42D5-8BD3-3F952829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2FAA4-EB88-4694-AB16-B83CA0C3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984F2-BED0-466C-943E-D889C775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B93F9-0718-4A25-8446-0E990026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B4614-4DDE-495C-8A94-9E3B67E55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957C-386A-4F32-8356-6227BCBC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74598-2D45-4748-9355-EAD6C410F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D3EF7-3EBD-4EA6-A12D-6F7D70A85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52CEF-1B99-4309-9AF7-AB025E31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62BEB-D414-48ED-81E7-66F46245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DA0B7-F6A6-4742-9FF5-A79A987B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1FFE6-5EB3-4197-8BD4-9088793B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35894-56A3-4ACA-B24F-7EAA4242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C7162-9E42-4C05-937F-944A7A32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D21D1-BEA4-43A9-925E-A299A0AD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3E309-E4FF-45D0-B940-8ECB8A28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B80C-11DF-4386-A620-86A4374C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BFBD4-962F-4BD2-A79F-8952E264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382DA-DF19-40BA-ABE0-532F636B2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C6344-18D2-4520-8320-E1AC9FD96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54558-8B50-4B8A-89FF-2B1D0F7D1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27AB0-92DE-42B4-8019-399102D3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A0AC9-E037-4216-9133-15A5D193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4DB45-B8BE-41AD-8D57-D75BC587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17EC5-8C33-45FE-A1E3-BCAE6C76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0B5BF-BA18-43EE-8516-8FB61E5A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FBBC8-C298-4149-977E-8F95B1D6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E19B-EBB7-4BFE-8DFA-A04ED1A7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20278-D15C-4D58-B839-B0741D4B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9A65A-3CAA-4798-91FF-4CE0DF04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668C0-537E-4D7B-83B0-C576CF2B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C5FA9-C32F-4EB7-AEE2-BEF034FA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E3A8B-5B83-457B-93D9-7A3D38A79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8F236-5C36-4B9E-942F-EC3356E34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041C4-9A81-454A-A103-31182FD5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3B092-8A6D-4E92-BE30-B3465B07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1D536-0F71-4BF1-9AB4-D94BCC7B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7C687-D122-4EA5-837C-07527CA4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2501-6E05-45C3-9D22-85603935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10DF4-34BE-4916-85E5-E33046FE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7C2A2-E986-42D1-BA0A-837D2367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55592-D987-4AB3-A516-3A0E81D0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057C7-BCF2-49E4-8345-E208D7E4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AEB83-11ED-468B-B870-84867F31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04CF2-DFBD-4DCE-8A2C-3460C6560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9E1F9-5BFB-4D23-939F-FA7B82C67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22DF4-EC6B-4A9A-9F81-A2BC3588D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FA930-E501-44A6-927F-1367A00B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9494A-3005-4C32-B97A-2E45D37D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0F42-43AC-4A5A-B100-55F04E4D74DC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2948-09DD-4FDA-A4DD-596CF462A83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6340-952B-40B4-AF52-13A9109A2E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5F75-BFB6-4D49-9B52-D250432D180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8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9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30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F49D-D6F4-4081-B6A0-5498A4D0EF7F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BCE9-0E36-4F9B-9285-7D415BABDEA7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B1DE-47AD-4EFF-8DCD-6CEFCA57E76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-36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3B1A-95D5-4E8D-B946-4037F4407573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0393-0DA0-4DB7-8C36-D288D69E0AC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-36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C0DD-AEEF-45F7-A3EE-9E3575E9C4D0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8A08-D144-41C6-9DEE-0FC32C6FB3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-36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D329-C27F-4CDB-B8B6-79294F2E15E7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2976-841F-4F36-84EA-CA62092080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4DA0-37A6-4324-A4AD-A14E9E33D66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2CAC-0867-4F4B-9092-5C16071B8F0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6103-EA54-41CB-A69D-1D3485806B75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B5D0-AC05-49FC-B99F-E1FF3511EB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F03D-6ADB-4144-B8B6-DB546939ABA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B3C7-2B21-4F96-B09C-51587F7F977C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6679-D52A-4BC9-A93B-AFE6F36E01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246D-880D-47A1-AA32-764E41155E4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9A83-3978-4C16-9DC8-39A914DC76EC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27C4-C46F-42FD-B30C-B999AD12590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328E-D871-4228-80B0-A6CC067C019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6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7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F5C5-BE2D-4F05-911D-07BA54000D20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23-00-Shell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 rot="21556800">
            <a:off x="2146320" y="2009520"/>
            <a:ext cx="4651200" cy="20620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cc0000"/>
                </a:solidFill>
                <a:latin typeface="Comic Sans MS"/>
              </a:rPr>
              <a:t>Population Genetics</a:t>
            </a:r>
            <a:endParaRPr b="1" i="1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168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Microevolution</a:t>
            </a:r>
            <a:endParaRPr b="1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Changes occur in gene pools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due to mutation, natural selection, genetic drift, etc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Gene pool changes cause more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VARIATION in individuals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in the popula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This process is called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MICROEVOLU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Bacteria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becoming unaffected by antibiotics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(resistant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504960" y="4495320"/>
            <a:ext cx="556236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Hardy-Weinberg Principle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The Hardy-Weinberg Principle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Used to describe a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n-evolving population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huffling of alleles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by meiosis and random fertilization have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 effect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on the overall gene pool. 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atural populations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are NOT expected to actually be in Hardy-Weinberg equilibrium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0" y="5715000"/>
            <a:ext cx="8534520" cy="17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The Hardy-Weinberg Principle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Deviation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from Hardy-Weinberg equilibrium usually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results in evolu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Understanding a non-evolving population, helps us to understand how evolution occur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5 Assumptions of the H-W Principle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Large population size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- small populations have fluctuations in allele frequencies (e.g., fire, storm)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 migration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- immigrants can change the frequency of an allele by bringing in new alleles to a population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 net mutations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-  if alleles change from one to another, this will change the frequency of those allel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5 Assumptions of the H-W Principle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Random mating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-  if certain traits are more desirable, then individuals with those traits will be selected and this will not allow for random mixing of alleles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 natural selection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-  if some individuals survive and reproduce at a higher rate than others, then their offspring will carry those genes and the frequency will change for the next generation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Traits Selected for Random Mating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87" name="Picture 1026" descr="23-16x1-SexualDimorphism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488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The Hardy-Weinberg Principle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720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The gene pool of a NON-EVOLVING population remains CONSTANT over multiple generations (allele frequency doesn’t change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he Hardy-Weinberg Equation: 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              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1.0 = p</a:t>
            </a:r>
            <a:r>
              <a:rPr b="1" i="1" lang="en-US" sz="3200" spc="-1" strike="noStrike" baseline="30000">
                <a:solidFill>
                  <a:srgbClr val="cc0000"/>
                </a:solidFill>
                <a:latin typeface="Comic Sans MS"/>
                <a:ea typeface="Arial"/>
              </a:rPr>
              <a:t>2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 + 2pq + q</a:t>
            </a:r>
            <a:r>
              <a:rPr b="1" i="1" lang="en-US" sz="3200" spc="-1" strike="noStrike" baseline="30000">
                <a:solidFill>
                  <a:srgbClr val="cc0000"/>
                </a:solidFill>
                <a:latin typeface="Comic Sans MS"/>
                <a:ea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Where: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  <a:ea typeface="Arial"/>
              </a:rPr>
              <a:t>p</a:t>
            </a:r>
            <a:r>
              <a:rPr b="1" i="1" lang="en-US" sz="2800" spc="-1" strike="noStrike" baseline="30000">
                <a:solidFill>
                  <a:srgbClr val="cc0000"/>
                </a:solidFill>
                <a:latin typeface="Comic Sans MS"/>
                <a:ea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frequency of AA genotyp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  <a:ea typeface="Arial"/>
              </a:rPr>
              <a:t>2pq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= frequency of Aa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  <a:ea typeface="Arial"/>
              </a:rPr>
              <a:t>q</a:t>
            </a:r>
            <a:r>
              <a:rPr b="1" i="1" lang="en-US" sz="2800" spc="-1" strike="noStrike" baseline="30000">
                <a:solidFill>
                  <a:srgbClr val="cc0000"/>
                </a:solidFill>
                <a:latin typeface="Comic Sans MS"/>
                <a:ea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= frequency of aa genotyp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The Hardy-Weinberg Principle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2952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etermining the Allele Frequency using Hardy-Weinberg: 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              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Comic Sans MS"/>
                <a:ea typeface="Arial"/>
              </a:rPr>
              <a:t>1.0 = p + q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Where: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p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=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frequency of A allel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q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= frequency of a allel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304920" y="3049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Allele Frequencies Define Gene Pool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Text Box 3"/>
          <p:cNvSpPr/>
          <p:nvPr/>
        </p:nvSpPr>
        <p:spPr>
          <a:xfrm>
            <a:off x="533520" y="335268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s there are 1000 copies of the genes for color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allele frequencies are (in both males and females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320 x 2 (RR) + 160 x 1 (Rr) = 800 R;  800/1000 = 0.8 (80%) 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60 x 1 (Rr) + 20 x 2 (rr) = 200 r; 200/1000 = 0.2 (20%) 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838080" y="9907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00 flowering pla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Rectangle 5"/>
          <p:cNvSpPr/>
          <p:nvPr/>
        </p:nvSpPr>
        <p:spPr>
          <a:xfrm>
            <a:off x="1219320" y="18288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80 red flow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4191120" y="18288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0 white flow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83808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20 R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Rectangle 8"/>
          <p:cNvSpPr/>
          <p:nvPr/>
        </p:nvSpPr>
        <p:spPr>
          <a:xfrm>
            <a:off x="266688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60 R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Rectangle 9"/>
          <p:cNvSpPr/>
          <p:nvPr/>
        </p:nvSpPr>
        <p:spPr>
          <a:xfrm>
            <a:off x="472428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0 r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Line 10"/>
          <p:cNvSpPr/>
          <p:nvPr/>
        </p:nvSpPr>
        <p:spPr>
          <a:xfrm flipH="1">
            <a:off x="3657600" y="14479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Line 11"/>
          <p:cNvSpPr/>
          <p:nvPr/>
        </p:nvSpPr>
        <p:spPr>
          <a:xfrm>
            <a:off x="4267080" y="144792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Line 12"/>
          <p:cNvSpPr/>
          <p:nvPr/>
        </p:nvSpPr>
        <p:spPr>
          <a:xfrm flipH="1">
            <a:off x="1980720" y="236232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Line 13"/>
          <p:cNvSpPr/>
          <p:nvPr/>
        </p:nvSpPr>
        <p:spPr>
          <a:xfrm>
            <a:off x="2590920" y="23623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Line 14"/>
          <p:cNvSpPr/>
          <p:nvPr/>
        </p:nvSpPr>
        <p:spPr>
          <a:xfrm>
            <a:off x="4876920" y="23623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5200" y="15192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The Gene Pool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Members of a species can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interbreed</a:t>
            </a:r>
            <a:r>
              <a:rPr b="1" i="1" lang="en-US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&amp; produce</a:t>
            </a:r>
            <a:r>
              <a:rPr b="1" i="1" lang="en-US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fertile offspring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Species have a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hared gene poo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Gene pool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– all of the alleles of all individuals in a popul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7" name="Picture 17" descr="gene_pool_sm"/>
          <p:cNvPicPr/>
          <p:nvPr/>
        </p:nvPicPr>
        <p:blipFill>
          <a:blip r:embed="rId1"/>
          <a:stretch/>
        </p:blipFill>
        <p:spPr>
          <a:xfrm>
            <a:off x="5638680" y="1066680"/>
            <a:ext cx="2959200" cy="4953240"/>
          </a:xfrm>
          <a:prstGeom prst="rect">
            <a:avLst/>
          </a:prstGeom>
          <a:ln w="0">
            <a:noFill/>
          </a:ln>
        </p:spPr>
      </p:pic>
      <p:sp>
        <p:nvSpPr>
          <p:cNvPr id="43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050" descr="23-03a-HardyWeinberg-L"/>
          <p:cNvPicPr/>
          <p:nvPr/>
        </p:nvPicPr>
        <p:blipFill>
          <a:blip r:embed="rId1"/>
          <a:stretch/>
        </p:blipFill>
        <p:spPr>
          <a:xfrm>
            <a:off x="914400" y="210960"/>
            <a:ext cx="7315200" cy="6436080"/>
          </a:xfrm>
          <a:prstGeom prst="rect">
            <a:avLst/>
          </a:prstGeom>
          <a:ln w="0">
            <a:noFill/>
          </a:ln>
        </p:spPr>
      </p:pic>
      <p:sp>
        <p:nvSpPr>
          <p:cNvPr id="510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050" descr="23-03b-HardyWeinberg-L"/>
          <p:cNvPicPr/>
          <p:nvPr/>
        </p:nvPicPr>
        <p:blipFill>
          <a:blip r:embed="rId1"/>
          <a:stretch/>
        </p:blipFill>
        <p:spPr>
          <a:xfrm>
            <a:off x="914400" y="230040"/>
            <a:ext cx="7238880" cy="6330960"/>
          </a:xfrm>
          <a:prstGeom prst="rect">
            <a:avLst/>
          </a:prstGeom>
          <a:ln w="0">
            <a:noFill/>
          </a:ln>
        </p:spPr>
      </p:pic>
      <p:sp>
        <p:nvSpPr>
          <p:cNvPr id="51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504960" y="4495320"/>
            <a:ext cx="556236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Microevolution of Species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Causes of Microevolution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685440" y="12189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Genetic Drif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83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 the change in the gene pool of a small population due to chanc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atural Selection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83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-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success in reproduction based on heritable traits results in selected alleles being passed to relatively more offspring (Darwinian inheritance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3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 Cause ADAPTATION of Population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Gene Flow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83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is genetic exchange due to the migration of fertile individuals or gametes between population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Causes of Microevolution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685440" y="121896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Mut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 change in an organism’s DN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utations can be transmitted in gametes to offspring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n-random mating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- Mates are chosen on the basis of the best trait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0" name="Picture 2" descr=""/>
          <p:cNvPicPr/>
          <p:nvPr/>
        </p:nvPicPr>
        <p:blipFill>
          <a:blip r:embed="rId1"/>
          <a:srcRect l="0" t="0" r="0" b="14360"/>
          <a:stretch/>
        </p:blipFill>
        <p:spPr>
          <a:xfrm>
            <a:off x="3124080" y="4191120"/>
            <a:ext cx="4442040" cy="2361960"/>
          </a:xfrm>
          <a:prstGeom prst="rect">
            <a:avLst/>
          </a:prstGeom>
          <a:ln w="0">
            <a:noFill/>
          </a:ln>
        </p:spPr>
      </p:pic>
      <p:sp>
        <p:nvSpPr>
          <p:cNvPr id="521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504960" y="4495320"/>
            <a:ext cx="556236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Genetic Drift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260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Factors that Cause Genetic Drift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228600" y="990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Bottleneck Effec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 drastic reduction in population (volcanoes, earthquakes, landslides …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educed genetic variatio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Smaller population may not be able to adapt to new selection pressur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Founder Effec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occurs when a new colony is started by a few members of the original populatio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educed genetic variatio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499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May lead to speciation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"/>
          <p:cNvPicPr/>
          <p:nvPr/>
        </p:nvPicPr>
        <p:blipFill>
          <a:blip r:embed="rId1"/>
          <a:stretch/>
        </p:blipFill>
        <p:spPr>
          <a:xfrm>
            <a:off x="120600" y="533520"/>
            <a:ext cx="8910720" cy="5790960"/>
          </a:xfrm>
          <a:prstGeom prst="rect">
            <a:avLst/>
          </a:prstGeom>
          <a:ln w="0">
            <a:noFill/>
          </a:ln>
        </p:spPr>
      </p:pic>
      <p:sp>
        <p:nvSpPr>
          <p:cNvPr id="52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24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Loss of Genetic Variation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228600" y="13716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Cheetahs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have little genetic variation in their gene poo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This can probably be attributed to a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population bottleneck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they experienced around 10,000 years ago, barely avoiding extinction at the end of the last ice ag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052" descr=""/>
          <p:cNvPicPr/>
          <p:nvPr/>
        </p:nvPicPr>
        <p:blipFill>
          <a:blip r:embed="rId1"/>
          <a:stretch/>
        </p:blipFill>
        <p:spPr>
          <a:xfrm>
            <a:off x="457200" y="343080"/>
            <a:ext cx="8153280" cy="6114960"/>
          </a:xfrm>
          <a:prstGeom prst="rect">
            <a:avLst/>
          </a:prstGeom>
          <a:ln w="0">
            <a:noFill/>
          </a:ln>
        </p:spPr>
      </p:pic>
      <p:sp>
        <p:nvSpPr>
          <p:cNvPr id="533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56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The Gene Pool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Different species do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T exchange genes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by interbreeding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Different species that interbreed often produce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terile or less viable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offspring e.g. Mul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1" name="Picture 9" descr="mule"/>
          <p:cNvPicPr/>
          <p:nvPr/>
        </p:nvPicPr>
        <p:blipFill>
          <a:blip r:embed="rId1"/>
          <a:stretch/>
        </p:blipFill>
        <p:spPr>
          <a:xfrm>
            <a:off x="5059440" y="1066680"/>
            <a:ext cx="3443040" cy="4953240"/>
          </a:xfrm>
          <a:prstGeom prst="rect">
            <a:avLst/>
          </a:prstGeom>
          <a:ln w="0">
            <a:noFill/>
          </a:ln>
        </p:spPr>
      </p:pic>
      <p:sp>
        <p:nvSpPr>
          <p:cNvPr id="44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Comic Sans MS"/>
              </a:rPr>
              <a:t>Founder’s Effec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35" name="Picture 2" descr=""/>
          <p:cNvPicPr/>
          <p:nvPr/>
        </p:nvPicPr>
        <p:blipFill>
          <a:blip r:embed="rId1"/>
          <a:srcRect l="0" t="23158" r="0" b="0"/>
          <a:stretch/>
        </p:blipFill>
        <p:spPr>
          <a:xfrm>
            <a:off x="103320" y="1600200"/>
            <a:ext cx="9040680" cy="4267080"/>
          </a:xfrm>
          <a:prstGeom prst="rect">
            <a:avLst/>
          </a:prstGeom>
          <a:ln w="0">
            <a:noFill/>
          </a:ln>
        </p:spPr>
      </p:pic>
      <p:sp>
        <p:nvSpPr>
          <p:cNvPr id="53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895120" y="4495320"/>
            <a:ext cx="617220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Modes of Natural Selection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Modes of Natural Selection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Directional Selec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avors individuals at one end of the phenotypic rang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ost common during times of environmental change or when moving to new habitat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2001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Disruptive selec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1500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avors extreme over intermediate phenotyp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1500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Occurs when environmental change favors an extreme phenotyp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23-13-DirectionalSelect-L"/>
          <p:cNvPicPr/>
          <p:nvPr/>
        </p:nvPicPr>
        <p:blipFill>
          <a:blip r:embed="rId1"/>
          <a:stretch/>
        </p:blipFill>
        <p:spPr>
          <a:xfrm>
            <a:off x="457200" y="271440"/>
            <a:ext cx="8229600" cy="631512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3"/>
          <p:cNvSpPr/>
          <p:nvPr/>
        </p:nvSpPr>
        <p:spPr>
          <a:xfrm>
            <a:off x="4800600" y="985680"/>
            <a:ext cx="358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Directional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Selec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026" descr="23-14-DiversifyingSelect"/>
          <p:cNvPicPr/>
          <p:nvPr/>
        </p:nvPicPr>
        <p:blipFill>
          <a:blip r:embed="rId1"/>
          <a:stretch/>
        </p:blipFill>
        <p:spPr>
          <a:xfrm>
            <a:off x="0" y="679320"/>
            <a:ext cx="9144000" cy="610236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1027"/>
          <p:cNvSpPr/>
          <p:nvPr/>
        </p:nvSpPr>
        <p:spPr>
          <a:xfrm>
            <a:off x="1143000" y="450720"/>
            <a:ext cx="731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Disruptive Selec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Modes of Natural Selection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tabilizing Selec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Favors intermediate over extreme phenotyp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educes variation and maintains the cureent averag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Example: Human birth weigh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0" name="Picture 2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534200" cy="3022560"/>
          </a:xfrm>
          <a:prstGeom prst="rect">
            <a:avLst/>
          </a:prstGeom>
          <a:ln w="0">
            <a:noFill/>
          </a:ln>
        </p:spPr>
      </p:pic>
      <p:sp>
        <p:nvSpPr>
          <p:cNvPr id="551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1026" descr="23-12-ModesOfSelection-L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  <p:sp>
        <p:nvSpPr>
          <p:cNvPr id="553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895120" y="4495320"/>
            <a:ext cx="617220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Variations in Populations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5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700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Geographic Variations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85440" y="1371600"/>
            <a:ext cx="4762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Variation in a species due to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climate or another geographical condi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Populations live in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different location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Example: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Finches of Galapagos Islands &amp; South Americ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8" name="Picture 2" descr=""/>
          <p:cNvPicPr/>
          <p:nvPr/>
        </p:nvPicPr>
        <p:blipFill>
          <a:blip r:embed="rId1"/>
          <a:stretch/>
        </p:blipFill>
        <p:spPr>
          <a:xfrm>
            <a:off x="5448240" y="1346040"/>
            <a:ext cx="3162240" cy="4648320"/>
          </a:xfrm>
          <a:prstGeom prst="rect">
            <a:avLst/>
          </a:prstGeom>
          <a:ln w="0">
            <a:noFill/>
          </a:ln>
        </p:spPr>
      </p:pic>
      <p:sp>
        <p:nvSpPr>
          <p:cNvPr id="559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23-08-PlantClinalVariat-L"/>
          <p:cNvPicPr/>
          <p:nvPr/>
        </p:nvPicPr>
        <p:blipFill>
          <a:blip r:embed="rId1"/>
          <a:stretch/>
        </p:blipFill>
        <p:spPr>
          <a:xfrm>
            <a:off x="0" y="257040"/>
            <a:ext cx="9144000" cy="6343920"/>
          </a:xfrm>
          <a:prstGeom prst="rect">
            <a:avLst/>
          </a:prstGeom>
          <a:ln w="0">
            <a:noFill/>
          </a:ln>
        </p:spPr>
      </p:pic>
      <p:sp>
        <p:nvSpPr>
          <p:cNvPr id="561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4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Populations</a:t>
            </a:r>
            <a:endParaRPr b="1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 group of the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ame species living in an area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No two individuals are exactly alike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(variations)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More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Fit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individuals survive &amp; pass on their trait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5" name="Picture 6" descr="Deer_Fighting_"/>
          <p:cNvPicPr/>
          <p:nvPr/>
        </p:nvPicPr>
        <p:blipFill>
          <a:blip r:embed="rId1"/>
          <a:stretch/>
        </p:blipFill>
        <p:spPr>
          <a:xfrm>
            <a:off x="4648320" y="2103480"/>
            <a:ext cx="4267080" cy="2879640"/>
          </a:xfrm>
          <a:prstGeom prst="rect">
            <a:avLst/>
          </a:prstGeom>
          <a:ln w="0">
            <a:noFill/>
          </a:ln>
        </p:spPr>
      </p:pic>
      <p:sp>
        <p:nvSpPr>
          <p:cNvPr id="44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Heterozygote Advantage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Favors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heterozygotes (Aa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Maintains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 both alleles (A,a)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instead of removing less successful alleles from a popula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Sickle cell anemi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&gt; Homozygotes exhibit severe anemia, have abnormal blood cell shape, and usually die before reproductive age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&gt; Heterozygotes are less susceptible to malari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Sickle Cell and Malaria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66" name="Picture 3" descr="21_13"/>
          <p:cNvPicPr/>
          <p:nvPr/>
        </p:nvPicPr>
        <p:blipFill>
          <a:blip r:embed="rId1"/>
          <a:srcRect l="0" t="2496" r="0" b="0"/>
          <a:stretch/>
        </p:blipFill>
        <p:spPr>
          <a:xfrm>
            <a:off x="914400" y="1066680"/>
            <a:ext cx="7315200" cy="5349960"/>
          </a:xfrm>
          <a:prstGeom prst="rect">
            <a:avLst/>
          </a:prstGeom>
          <a:ln w="0">
            <a:noFill/>
          </a:ln>
        </p:spPr>
      </p:pic>
      <p:sp>
        <p:nvSpPr>
          <p:cNvPr id="567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23-10-MappingMalaria-L"/>
          <p:cNvPicPr/>
          <p:nvPr/>
        </p:nvPicPr>
        <p:blipFill>
          <a:blip r:embed="rId1"/>
          <a:stretch/>
        </p:blipFill>
        <p:spPr>
          <a:xfrm>
            <a:off x="990720" y="168120"/>
            <a:ext cx="7162560" cy="6521760"/>
          </a:xfrm>
          <a:prstGeom prst="rect">
            <a:avLst/>
          </a:prstGeom>
          <a:ln w="0">
            <a:noFill/>
          </a:ln>
        </p:spPr>
      </p:pic>
      <p:sp>
        <p:nvSpPr>
          <p:cNvPr id="569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Other Sources of Variation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228600" y="761760"/>
            <a:ext cx="86868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Mutation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In stable environments, mutations often result in little or no benefit to an organism, or are often harmfu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utations are more beneficial (rare) in changing environments  (Example:  HIV resistance to antiviral drugs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51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c0000"/>
                </a:solidFill>
                <a:latin typeface="Comic Sans MS"/>
                <a:ea typeface="Arial"/>
              </a:rPr>
              <a:t>Genetic Recombination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source of most genetic differences between individuals in a populatio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51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c0000"/>
                </a:solidFill>
                <a:latin typeface="Comic Sans MS"/>
                <a:ea typeface="Arial"/>
              </a:rPr>
              <a:t>Co-evolution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Often occurs between parasite &amp; host and flowers &amp; their pollinator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5748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36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Coevolution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74" name="Picture 3" descr=""/>
          <p:cNvPicPr/>
          <p:nvPr/>
        </p:nvPicPr>
        <p:blipFill>
          <a:blip r:embed="rId1"/>
          <a:srcRect l="2247" t="1749" r="0" b="4818"/>
          <a:stretch/>
        </p:blipFill>
        <p:spPr>
          <a:xfrm>
            <a:off x="0" y="1219320"/>
            <a:ext cx="9144000" cy="5335560"/>
          </a:xfrm>
          <a:prstGeom prst="rect">
            <a:avLst/>
          </a:prstGeom>
          <a:ln w="0">
            <a:noFill/>
          </a:ln>
        </p:spPr>
      </p:pic>
      <p:sp>
        <p:nvSpPr>
          <p:cNvPr id="575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Speciation</a:t>
            </a:r>
            <a:endParaRPr b="1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Formation of new speci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One species may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plit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into 2 or more speci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 species may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evolve into a new speci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Requires very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long periods of tim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9" name="Picture 6" descr="speciation"/>
          <p:cNvPicPr/>
          <p:nvPr/>
        </p:nvPicPr>
        <p:blipFill>
          <a:blip r:embed="rId1"/>
          <a:srcRect l="0" t="0" r="0" b="8126"/>
          <a:stretch/>
        </p:blipFill>
        <p:spPr>
          <a:xfrm>
            <a:off x="4648320" y="1220760"/>
            <a:ext cx="4267080" cy="4570560"/>
          </a:xfrm>
          <a:prstGeom prst="rect">
            <a:avLst/>
          </a:prstGeom>
          <a:ln w="0">
            <a:noFill/>
          </a:ln>
        </p:spPr>
      </p:pic>
      <p:sp>
        <p:nvSpPr>
          <p:cNvPr id="450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504960" y="4495320"/>
            <a:ext cx="556236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Modern Evolutionary Thought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1710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Modern Synthesis Theory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Combines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Darwinian selection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Mendelian inheritanc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Population genetics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- study of genetic variation within a popula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Emphasis on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quantitative characters (height, size …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5" name="Picture 5" descr="darwinport2"/>
          <p:cNvPicPr/>
          <p:nvPr/>
        </p:nvPicPr>
        <p:blipFill>
          <a:blip r:embed="rId1"/>
          <a:stretch/>
        </p:blipFill>
        <p:spPr>
          <a:xfrm>
            <a:off x="6400800" y="1106640"/>
            <a:ext cx="2362320" cy="33987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6" descr="mendel"/>
          <p:cNvPicPr/>
          <p:nvPr/>
        </p:nvPicPr>
        <p:blipFill>
          <a:blip r:embed="rId2"/>
          <a:stretch/>
        </p:blipFill>
        <p:spPr>
          <a:xfrm>
            <a:off x="4419720" y="2895480"/>
            <a:ext cx="2527200" cy="3294360"/>
          </a:xfrm>
          <a:prstGeom prst="rect">
            <a:avLst/>
          </a:prstGeom>
          <a:ln w="0">
            <a:noFill/>
          </a:ln>
        </p:spPr>
      </p:pic>
      <p:sp>
        <p:nvSpPr>
          <p:cNvPr id="457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84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Modern Synthesis Theory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952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1940s – comprehensive theory of evolution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(Modern Synthesis Theory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Introduced by Fisher &amp; Wrigh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Until then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, many did not accept that Darwin’s theory of natural selection could drive evolu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0" name="Picture 4" descr="fisher"/>
          <p:cNvPicPr/>
          <p:nvPr/>
        </p:nvPicPr>
        <p:blipFill>
          <a:blip r:embed="rId1"/>
          <a:stretch/>
        </p:blipFill>
        <p:spPr>
          <a:xfrm>
            <a:off x="5105520" y="3048120"/>
            <a:ext cx="2011320" cy="32004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5" descr="wright"/>
          <p:cNvPicPr/>
          <p:nvPr/>
        </p:nvPicPr>
        <p:blipFill>
          <a:blip r:embed="rId2"/>
          <a:stretch/>
        </p:blipFill>
        <p:spPr>
          <a:xfrm>
            <a:off x="6629400" y="1066680"/>
            <a:ext cx="2011320" cy="302904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6"/>
          <p:cNvSpPr/>
          <p:nvPr/>
        </p:nvSpPr>
        <p:spPr>
          <a:xfrm>
            <a:off x="7086600" y="3352680"/>
            <a:ext cx="144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mic Sans MS"/>
              </a:rPr>
              <a:t>S. Wr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5334120" y="5867280"/>
            <a:ext cx="1676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mic Sans MS"/>
              </a:rPr>
              <a:t>A. Fish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764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Modern Synthesis Theory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TODAY’S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theory on evolu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Recognizes that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GENES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are responsible for the inheritance of characteristic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Recognizes that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POPULATIONS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, not individuals, evolve due to natural selection &amp; genetic drif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Recognizes that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SPECIATION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usually is due to the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gradual accumulation of small genetic chang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15:30:09Z</dcterms:created>
  <dc:creator>Valued Gateway Client</dc:creator>
  <dc:description/>
  <dc:language>en-US</dc:language>
  <cp:lastModifiedBy>LEGION</cp:lastModifiedBy>
  <dcterms:modified xsi:type="dcterms:W3CDTF">2016-12-07T12:48:19Z</dcterms:modified>
  <cp:revision>82</cp:revision>
  <dc:subject/>
  <dc:title>PowerPoint Presentation</dc:title>
</cp:coreProperties>
</file>